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556-B56B-4E2E-8380-DE62F3B9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6A2-E12E-4C5B-8446-CCB9F00B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739-51F2-469C-A6C3-22E4F5AC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82C-E389-440E-9376-71A5E2DC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811-D598-4C7D-B893-88F8287F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BAD-F136-4FA7-A419-57985F5C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6D5-3C3A-4474-9E66-113B261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4D5-E60C-4D97-BD35-E3E72FD4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6D8-ADE1-44EC-AFA8-CE41F509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058-A72D-4E19-8190-428F8791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71F-2945-4497-B81E-8FD82A12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8C4-CF52-4F31-BF5D-96AD5D9A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A626-834D-4978-B334-C59E03FBB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2:33:25Z</dcterms:created>
  <dc:creator>Patrick J. Mooney</dc:creator>
  <dc:description/>
  <dc:language>en-US</dc:language>
  <cp:lastModifiedBy>Patrick J. Mooney</cp:lastModifiedBy>
  <dcterms:modified xsi:type="dcterms:W3CDTF">2011-12-01T02:34:27Z</dcterms:modified>
  <cp:revision>1</cp:revision>
  <dc:subject/>
  <dc:title>Slide 1</dc:title>
</cp:coreProperties>
</file>